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F2E-0AAC-4039-850E-16B585C8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6C3-5091-466A-A71E-82D420A3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E67-6173-45AA-973C-7721E004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833-2F5C-4BD9-80B1-07C995FD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2E7-0410-4D87-A442-B39580F6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343-9DB1-4BC1-9242-FC3F6067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610-6C84-4AB2-9D44-B2698B9A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DB1-3A14-4990-A5E5-083D2A66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9D5-0CB2-4F35-8DD2-F308F88E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751-E642-485A-807B-E7971129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552-D4BF-40F8-9DBF-0F23655B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987-2F7E-48F3-8712-41DFE72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40A7-7195-496B-89C1-691F11C7D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aves</a:t>
            </a:r>
            <a:br>
              <a:rPr sz="5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Elaine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8" descr="GreenLeaves.jpg"/>
          <p:cNvPicPr/>
          <p:nvPr/>
        </p:nvPicPr>
        <p:blipFill>
          <a:blip r:embed="rId1"/>
          <a:stretch/>
        </p:blipFill>
        <p:spPr>
          <a:xfrm>
            <a:off x="281160" y="987480"/>
            <a:ext cx="2382840" cy="4449600"/>
          </a:xfrm>
          <a:prstGeom prst="rect">
            <a:avLst/>
          </a:prstGeom>
          <a:ln w="0">
            <a:noFill/>
          </a:ln>
        </p:spPr>
      </p:pic>
      <p:pic>
        <p:nvPicPr>
          <p:cNvPr id="43" name="Content Placeholder 10" descr="Lilac_leaves.jpg"/>
          <p:cNvPicPr/>
          <p:nvPr/>
        </p:nvPicPr>
        <p:blipFill>
          <a:blip r:embed="rId2"/>
          <a:stretch/>
        </p:blipFill>
        <p:spPr>
          <a:xfrm>
            <a:off x="3255840" y="2054160"/>
            <a:ext cx="2754360" cy="4303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2743200" y="472428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ves are the food making factories of green pla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ves come in many shapes and siz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re made of a single leaf blade connected by a petiole to the ste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13" descr="kratom_leaves2.jpg"/>
          <p:cNvPicPr/>
          <p:nvPr/>
        </p:nvPicPr>
        <p:blipFill>
          <a:blip r:embed="rId3"/>
          <a:stretch/>
        </p:blipFill>
        <p:spPr>
          <a:xfrm>
            <a:off x="6303960" y="1365120"/>
            <a:ext cx="2657520" cy="491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4:44:48Z</dcterms:created>
  <dc:creator>veshelman</dc:creator>
  <dc:description/>
  <dc:language>en-US</dc:language>
  <cp:lastModifiedBy>veshelman</cp:lastModifiedBy>
  <dcterms:modified xsi:type="dcterms:W3CDTF">2009-04-18T14:45:52Z</dcterms:modified>
  <cp:revision>1</cp:revision>
  <dc:subject/>
  <dc:title>Leaves by Elaine </dc:title>
</cp:coreProperties>
</file>